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787A-BF46-48E6-B85B-D8A6A023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742D3-E6F1-4A56-84D1-9A70E4AA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6BAC-2024-4A3A-AE30-F3260C1F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91B6-A602-45E6-9249-4DFB8167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F672-2288-457B-85B8-FC9C730D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378D-EB25-4BA8-875A-7B160BCB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8661-1B97-42A1-9CB2-355E5907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585C-8F44-47A1-AA5B-6E479CC1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ED91-6147-4B27-877F-E477E4B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14440" y="2315880"/>
            <a:ext cx="5829120" cy="118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9BEC-4B27-46AA-9BF7-E2475BB8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0EEF-6175-4FF0-A43C-DCC24247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03E5-3F9B-4C47-AAEB-774B8782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D69B-5DBE-4F19-A000-91798088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7C04-F26C-40E4-AF5B-7CCAA462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1D2C-4F9C-4C07-9070-53FD041E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5664-A7A5-411C-AA6F-1859D0DC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65176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74640" y="518112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2852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65176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274640" y="6401880"/>
            <a:ext cx="1545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8681-4060-48B7-8C7E-CFBD511C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0888-E232-4505-B9CF-0110A436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A43D-CE8A-4EEE-968D-6E0BE03D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5EA7-9B50-475A-8FFB-D34D78A4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14440" y="2315880"/>
            <a:ext cx="5829120" cy="1187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3032-1DFF-42CF-8C2F-1D2745B7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CBFF-46CF-4D06-AB7A-C6A8438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88400" y="640188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CDBE-2A0F-4ADB-842E-8F80AED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5181120"/>
            <a:ext cx="23425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520" y="6401880"/>
            <a:ext cx="48006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2240-161C-4A85-92B1-9DAB067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833580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A841-0DD1-4AC1-88F6-FB7B5376789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6560" cy="9131760"/>
            <a:chOff x="0" y="0"/>
            <a:chExt cx="6856560" cy="9131760"/>
          </a:xfrm>
        </p:grpSpPr>
        <p:grpSp>
          <p:nvGrpSpPr>
            <p:cNvPr id="3" name=""/>
            <p:cNvGrpSpPr/>
            <p:nvPr/>
          </p:nvGrpSpPr>
          <p:grpSpPr>
            <a:xfrm>
              <a:off x="2057400" y="4719600"/>
              <a:ext cx="4794840" cy="4412160"/>
              <a:chOff x="2057400" y="4719600"/>
              <a:chExt cx="4794840" cy="4412160"/>
            </a:xfrm>
          </p:grpSpPr>
          <p:sp>
            <p:nvSpPr>
              <p:cNvPr id="4" name=""/>
              <p:cNvSpPr/>
              <p:nvPr/>
            </p:nvSpPr>
            <p:spPr>
              <a:xfrm>
                <a:off x="2057400" y="5595120"/>
                <a:ext cx="3431880" cy="35362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965120" y="5652360"/>
                <a:ext cx="1498680" cy="1716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452760" y="7081200"/>
                <a:ext cx="3392280" cy="2050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271680" y="4719600"/>
                <a:ext cx="3580560" cy="4412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59320" y="4903200"/>
                <a:ext cx="1485720" cy="1140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3955680" y="2837880"/>
              <a:ext cx="2172960" cy="3252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6856560" cy="37587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2343240" y="833112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6856560" cy="9131760"/>
            <a:chOff x="0" y="0"/>
            <a:chExt cx="6856560" cy="9131760"/>
          </a:xfrm>
        </p:grpSpPr>
        <p:grpSp>
          <p:nvGrpSpPr>
            <p:cNvPr id="51" name=""/>
            <p:cNvGrpSpPr/>
            <p:nvPr/>
          </p:nvGrpSpPr>
          <p:grpSpPr>
            <a:xfrm>
              <a:off x="2057400" y="4719600"/>
              <a:ext cx="4794840" cy="4412160"/>
              <a:chOff x="2057400" y="4719600"/>
              <a:chExt cx="4794840" cy="4412160"/>
            </a:xfrm>
          </p:grpSpPr>
          <p:sp>
            <p:nvSpPr>
              <p:cNvPr id="52" name=""/>
              <p:cNvSpPr/>
              <p:nvPr/>
            </p:nvSpPr>
            <p:spPr>
              <a:xfrm>
                <a:off x="2057400" y="5595120"/>
                <a:ext cx="3431880" cy="35362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65120" y="5652360"/>
                <a:ext cx="1498680" cy="1716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52760" y="7081200"/>
                <a:ext cx="3392280" cy="2050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71680" y="4719600"/>
                <a:ext cx="3580560" cy="4412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59320" y="4903200"/>
                <a:ext cx="1485720" cy="1140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955680" y="2837880"/>
              <a:ext cx="2172960" cy="3252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6856560" cy="37587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2315880"/>
            <a:ext cx="58291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2343240" y="833580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4914720" y="83390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9E61-3295-487C-904C-2419EC06614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1589" t="0" r="17478" b="5453"/>
          <a:stretch/>
        </p:blipFill>
        <p:spPr>
          <a:xfrm>
            <a:off x="476280" y="2268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34866" t="12507" r="26036" b="31169"/>
          <a:stretch/>
        </p:blipFill>
        <p:spPr>
          <a:xfrm>
            <a:off x="3573360" y="4356000"/>
            <a:ext cx="2867040" cy="309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9360" y="6443640"/>
            <a:ext cx="2665440" cy="200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95280" y="228600"/>
            <a:ext cx="422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Garamond Bold"/>
              </a:rPr>
              <a:t>ZUKUNFTS-HAN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2133720"/>
            <a:ext cx="302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griertes Feuerze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gitalkam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33412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Mp3 Play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aramond"/>
              </a:rPr>
              <a:t>1GB USB-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73360" y="7556400"/>
            <a:ext cx="328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Magnesium Gehä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aramond"/>
              </a:rPr>
              <a:t>Holographisches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434340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euerze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54864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6765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asertastat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7:58:30Z</dcterms:created>
  <dc:creator>twidmoser</dc:creator>
  <dc:description/>
  <dc:language>en-US</dc:language>
  <cp:lastModifiedBy>Bischöfliches Gymnasium</cp:lastModifiedBy>
  <dcterms:modified xsi:type="dcterms:W3CDTF">2005-06-12T09:11:01Z</dcterms:modified>
  <cp:revision>7</cp:revision>
  <dc:subject/>
  <dc:title>Folie 1</dc:title>
</cp:coreProperties>
</file>